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hammer.wav" ContentType="audio/x-wav"/>
  <Override PartName="/ppt/media/image13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E81-FF5C-44CC-9370-EA883EBE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CA1-6664-4B5A-8B9E-FFAE3559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D50-DF31-4D33-8F46-1A49AEC3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C15-79FF-4DA2-AA5E-EB18AE3B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704A-DEB5-43C5-8B4A-E2514A4A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48C3-81F5-4B10-B61E-F3705C09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3A53-BB43-4BB2-BF70-48BA35C4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49F5-2572-42D9-A256-374A01EC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0E27-E3D4-4F24-A471-F71B17E0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C191-0531-4932-A19E-5DCEA5D9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E9F4-6ECC-4A1A-82E0-435E65EF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248-923C-4972-A8A1-3EB8B734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503B-0A58-4F74-A070-74419CAA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2451-F662-469F-949D-90F5A29D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CF43-68AC-4F67-B8CA-FDFFA123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F6BC-72DA-41B9-ACE5-0A02F299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127F-6CD6-477D-9726-B155EC35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93E-AD0D-4FCC-BD4A-3296A345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F6F-76C7-4D95-BA22-D16E0A46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88E-24A4-415E-BA74-041E04D3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BF9-FB16-4748-87CD-A6CE61CF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AEA-97A1-4612-88EB-3006C260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6D3-A1A2-4146-BE0A-9AAD3CF8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261-7AEA-4B7C-AB57-8390D359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21B2-3D38-48D5-93B0-4AA51196F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26ED-5711-401C-AE34-E74DA7EE3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dy J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h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732200" cy="3703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5041800" cy="1893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9560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341360"/>
            <a:ext cx="100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9400" y="33829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2T01:03:55Z</dcterms:modified>
  <cp:revision>39</cp:revision>
  <dc:subject/>
  <dc:title>Newton’s First Law</dc:title>
</cp:coreProperties>
</file>